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F31-E866-469C-82B8-F28CBA96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96E-D450-4904-9209-9ED3A451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B96-DFD4-4975-B6DA-2AB859FA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30D-4635-43B8-B90B-DBE8027A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FF82-995D-48E3-97B1-35A22D28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AB25-351A-4AC1-9677-2DB8C402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90F1-C301-45FD-A48E-BDDDC78E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BA58-154D-4947-BB92-BF2AF7C4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4905-120F-4696-8EDC-F21D7512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A0A8-7603-46DF-8261-1E47AC0B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B9A8-0AD8-4044-800A-BE3241E2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108-F5AF-4600-B7E4-16EAFEC8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9321-163A-4E78-B73B-783BBD01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F864-85AA-408D-8939-866B5CF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7803-42D4-433F-BB67-5C4708E6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401D-0B44-4798-AE84-EEEEEE6E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95CB-4EA8-4DF3-B5C0-09A2B3A1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C36F-B455-478D-A29C-C8882072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0776-4BA4-4D8A-B336-69DA6FAB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0FC1-563D-460C-A9E6-AF840FFC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DB0B-BFD7-4AB7-B9C3-7C2D8574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8DBB4-4511-42FF-9292-84DCEE9E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A5A-1606-4E0E-B828-8C7E2E9B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873A-B91D-43B5-A6C0-62C72480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88D9-774C-4D92-BEDD-EBCD9DB9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FE0A-26FB-47F8-B83C-67251E9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A494-CFF2-45D5-B9A9-9AAA07C0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C49F5-0AF7-423E-88CF-01845E74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6232-AE24-4B73-B95B-0EFAD59C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164A-CDD2-4151-9D79-E1BBCC7B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AC701-BFE6-4CE8-B442-5AA5E502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BBB38-F8BB-4761-8969-46DF8E24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A6AAF-6092-45AF-A453-AF797D59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20E-BE5D-47B0-AD58-E6981C78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D91A5-D00B-4FE2-B4DD-C1037DA1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6F5F4-75B1-4A96-A51B-137F0F56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7EC40-9FDA-4F16-B892-D7A5F549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A0261-1213-4D6A-AD68-F8F7C3FF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E6AF0-C8B5-4681-9073-E7FA8C27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70CD1-0332-42BD-8FB0-5331B85A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33E1C-3028-4614-AF85-7719D2AA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12ABA-C0D8-450C-963C-F6D25AFA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9EF4A-EF20-40F6-877F-BDF3CF13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72E0C-CEF9-4C55-BE37-F78873DC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ED4-92DB-4B93-AB10-FF9B531A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CAA7C-B6F4-4CE8-A34D-65F8D777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CB64-B42D-484D-AE5A-39D75FB2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67DC6-15CC-4790-A9EB-492A1ED2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09B3F-4DB1-4755-8584-21E32487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3F017-C017-4BAD-881D-44DA82FB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3A08-7764-46C8-BAA7-8803E962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FDEFC-44DF-42E6-A532-F5FB355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4719-98E8-4D4B-AFF8-BAE81DC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00FE9-BC31-4EA1-A44B-3F227086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6BFD7-D9C0-4726-B16E-AC54BC03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6DC-4C4B-43C2-9D70-704775B0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459DC-E90D-46F7-B599-AC0D5786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1215-0C12-4D1D-AC58-C82A0081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5A49E-3EF2-4424-8D42-01790742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EC62D-AA7E-422C-8107-D720420C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D1779-FE72-48B7-A479-61292B30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17881-07A4-47E6-B39B-0C1ED1C1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7044-BEED-49BF-8BD7-CE13AADA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91C6D-63DC-47EB-AAC9-001092B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B02A9-827C-4DB3-B9DF-E20C1E12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86CD9-5553-4D6E-A99D-1C44711D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81F-1A80-4552-AF72-1DCDFA7F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DC204-A68A-4668-A181-B4176F1A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E30C0-8618-4F19-834B-5CE8765C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5299E-8F8E-4D83-83AB-EF253BE1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9D6A9-7DB8-46C1-856E-BB6F2A2A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8A8AC-0AC7-4172-916F-2453CDAB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55FA4-2B83-43B1-AC7F-FB69FD4F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12350-0E6E-4B74-A1C4-C2E9060F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71445-CA9F-4525-9E5F-374BA26D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D0E1C-91DB-45BA-88F1-82189A4B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7A314-1A82-45E7-9065-25A86A05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606-6D79-45AE-9E7A-1C5EE1BB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D099-4967-4BC4-89BC-9635E4F6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C19AB-87BE-48DA-9493-F8AF85C2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A5767-B1EC-4C8C-8C2F-073AB89C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DB7EE-A6CA-4C87-AB36-730F62D1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47836-5459-42C6-B60D-0BB96509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998-D336-4DA2-8A54-B138D69A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58D8-5C07-4165-ACE4-0E41496BE08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cc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cc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860E-DC71-49B2-BF34-4C68078E26E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F50E-6490-4B05-9796-A73C19FA0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1F38-CE20-40B2-9475-FFB01E36B7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9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1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368F-6773-4D0C-9655-B516F580E3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5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D5AE-36AB-491B-A888-CE8E651D47B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cc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ffff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A93C-1F49-4B8F-AB93-10EF9904D3A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228600" y="304920"/>
            <a:ext cx="53341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cient Egyptian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cience 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Medicine</a:t>
            </a:r>
            <a:endParaRPr b="1" lang="en-US" sz="28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4952880"/>
            <a:ext cx="2933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By: Emily Ehrlich,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Sara Baran, 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e8ac"/>
                </a:solidFill>
                <a:latin typeface="Kristen ITC"/>
              </a:rPr>
              <a:t>and Gabbi Stobb</a:t>
            </a:r>
            <a:endParaRPr b="1" lang="en-US" sz="2400" spc="1" strike="noStrike">
              <a:ln w="0">
                <a:noFill/>
              </a:ln>
              <a:solidFill>
                <a:srgbClr val="04e8ac"/>
              </a:solidFill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 top of the Ancient Egyptians’ developments in writing, they made advances in fields of astronomy, mathematics, and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mong citizens of the ancient world, Egypt was known as a land of great and highly valued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empus Sans ITC"/>
              </a:rPr>
              <a:t>Keeping Track of Ti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nce the Egyptians were agricultural people, they had to be capable of predicting when the Nile River would 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, scientists who study stars and other objects in the sky, noticed that the Nile began to rise rapidly at about the same time that they were able to see Si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irius, otherwise known as the dog star, could be seen in the sky shortly before sunr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Astronomers worked out the approximate time between the appearances of Siriu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They found that it came to approximately three hundred sixty-five days, so it became the length of their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urlz MT"/>
              </a:rPr>
              <a:t>Mathematic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sed basic mathematics in finding solutions to conflicts they faced ever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y could add, subtract, multiply, and di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Egyptians utilized simple fraction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Math helped them measure stone in order for it to be cut to the proper size to build pyram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Geometry was used to measure area so the Egyptians could figure out the quantity of taxes for a plot of land.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Medicine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Religion and medicine went hand in hand in ancient Egypt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Doctors were specially trained priests that used religious practices and their knowledge of diseases to attempt to heal the il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Supposedly, because of their work on  mummies, the ancient Egyptians knew a great deal of information about the bod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By studying the human body, they learned how to give surgery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The set broken bones, and treated many slight injuri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Medicine (continued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understood the concept of herb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erbalism is the practice of composing medicines from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natural remedies were used to help ease common, everyday sicknesses such as headaches and stomacha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t home, mothers prepared their own remedies, or cures, to reduce their children’s fe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Egyptians wrote a lot of their medical knowledge down on papyrus, which the ancient Greeks and Romans used centuries later. 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7:56:51Z</dcterms:created>
  <dc:creator>William Ehrlich</dc:creator>
  <dc:description/>
  <dc:language>en-US</dc:language>
  <cp:lastModifiedBy>William Ehrlich</cp:lastModifiedBy>
  <dcterms:modified xsi:type="dcterms:W3CDTF">2009-01-12T01:45:11Z</dcterms:modified>
  <cp:revision>10</cp:revision>
  <dc:subject/>
  <dc:title>Slide 1</dc:title>
</cp:coreProperties>
</file>